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0A9-7D85-40A4-A93D-3F45CD69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426-8D83-4BF8-BE63-CAB4BDA3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508-9B72-4053-ABB3-4397E6E4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48B-0249-4967-80A7-E8C715D9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028-33C1-4412-8767-93C4ECBA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392-D5D0-456C-A5CC-84873F8B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57D-C02D-4B52-A104-DDAE9108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FED-11DB-49F0-B14C-B73D9C34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C83-F4B2-40AA-9AE8-60F73F8D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F9F-BE23-4E14-B6F9-2CA7A011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093-26E3-4A76-AFCB-4FB8449D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C4A-D078-4C32-BE23-CD53D4EB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5BB1-4B79-407C-837B-4748B1AC2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aettenschweiler"/>
              </a:rPr>
              <a:t>The color of poetry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[Jessica Thoma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6680" y="275760"/>
            <a:ext cx="7820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Steam, graceful but dangerous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can burn the human hands as we make herbal tea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and sitting, watching is the panda, black and whit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170720" y="2209680"/>
            <a:ext cx="1178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The hunter, top of the food chain,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poor the ripened red of nature’s blood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Coloring the worl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186920"/>
            <a:ext cx="9495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Haettenschweiler"/>
              </a:rPr>
              <a:t>In our world, we wear the skin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Haettenschweiler"/>
              </a:rPr>
              <a:t>our tiger friend, and elephant, they are sponges of our pain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Haettenschweiler"/>
              </a:rPr>
              <a:t>but still, sits a panda, black and white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Haettenschweiler"/>
              </a:rPr>
              <a:t>Coloring the wor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Haettenschweiler"/>
              </a:rPr>
              <a:t>R e m i n i s c 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889560" y="1981080"/>
            <a:ext cx="107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You moved through my soul with strong 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Such ones of love-like scarlet sen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1213920"/>
            <a:ext cx="746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Pure love like white clouds on a summer’s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Past love, like Romeo and Juli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000" y="2285280"/>
            <a:ext cx="86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You were the power in my dev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529560" y="2056680"/>
            <a:ext cx="1037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Lost in a timeless love, our hearts beat f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We were such fools to promise we’d 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66760" y="2056680"/>
            <a:ext cx="960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I can’t live with you, but neither with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We sparked a fire we couldn’t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560520" y="2437560"/>
            <a:ext cx="102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aettenschweiler"/>
              </a:rPr>
              <a:t>Burned into the future, you are my p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Haettenschweiler"/>
              </a:rPr>
              <a:t>Dreamday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Haettenschweiler"/>
              </a:rPr>
              <a:t>F I N 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573560" y="532800"/>
            <a:ext cx="104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Several minutes past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fall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I watched her dance within the sha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400" y="2361600"/>
            <a:ext cx="10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With cotton pillow lips and cheeks of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Bound to the world behind 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9800" y="4480920"/>
            <a:ext cx="819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She is the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workar</a:t>
            </a: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t of the can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073520" y="685080"/>
            <a:ext cx="75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Singing with a voice of velv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She is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disaster’s natural</a:t>
            </a: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 c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50480" y="2666160"/>
            <a:ext cx="64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Hair golden like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shines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10840" y="4037760"/>
            <a:ext cx="844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I reach out. For it I long to sto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As if to climb on top of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But I back down and cho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79920" y="456480"/>
            <a:ext cx="41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Flee, flee, I fl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43920" y="1751760"/>
            <a:ext cx="82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Her beauty is too strong for 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05240" y="3047400"/>
            <a:ext cx="955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Still dancing like a balleri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The stars like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flydragons</a:t>
            </a: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 in this sc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I am the obsessed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hatterm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Gone bashful in this d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Haettenschweiler"/>
              </a:rPr>
              <a:t>Human Natur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182680" y="2287440"/>
            <a:ext cx="1351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There sits a panda, black and wh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In the forest; bamboo chutes of envy gre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Coloring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2845800" y="1143720"/>
            <a:ext cx="1485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We pick, like hunters, the rosy red petals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of the hibiscus flower,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and out the window is a panda, black and white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80800" y="2134080"/>
            <a:ext cx="98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White ivory of the jungle flower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are pearls of Mother Nature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Coloring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4:27:35Z</dcterms:created>
  <dc:creator>Virginia Beach City Public Schools</dc:creator>
  <dc:description/>
  <dc:language>en-US</dc:language>
  <cp:lastModifiedBy>Virginia Beach City Public Schools</cp:lastModifiedBy>
  <dcterms:modified xsi:type="dcterms:W3CDTF">2008-06-09T15:42:47Z</dcterms:modified>
  <cp:revision>4</cp:revision>
  <dc:subject/>
  <dc:title>The color of poetry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">
    <vt:lpwstr/>
  </property>
  <property fmtid="{D5CDD505-2E9C-101B-9397-08002B2CF9AE}" pid="3" name="Due Date">
    <vt:lpwstr/>
  </property>
  <property fmtid="{D5CDD505-2E9C-101B-9397-08002B2CF9AE}" pid="4" name="Teacher">
    <vt:lpwstr/>
  </property>
</Properties>
</file>